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303F-A4BB-497C-B168-F623D7562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NOTE: the ping command will not work due to the http:// in front of the 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CFC8-7DE9-4AF3-BF8D-08A2F6CAB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4760" y="3875400"/>
            <a:ext cx="6933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AEF0-EE99-45DF-8398-33FB7D97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47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579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4A4C-A9D1-45A5-A7F5-1421320EB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49080" y="144756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93400" y="144756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4760" y="387540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49080" y="387540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93400" y="387540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2D70-2640-45C2-BD53-FC33C26F7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1B3C-11D6-41C5-A763-4BF9D0A44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681D-D1FF-4A1E-9EF7-2028F442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6A320-4DA7-412C-98F3-068DF6D4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F96A-791E-4687-B244-BFDB1B22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0FFB-BA28-4C3A-8331-E59A49CE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04760" y="228240"/>
            <a:ext cx="69339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57B6-5561-4244-AEDE-040C201E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47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859D6-6B4B-4FFD-84A7-9A228C2C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A14C-477F-475F-9A0A-2A664953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579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5F00-C204-4340-892E-03B20A43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4760" y="3875400"/>
            <a:ext cx="6933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AAB5-5BC2-4245-B5D4-4B7C062C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4760" y="3875400"/>
            <a:ext cx="6933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8BDB-250B-41CE-A15E-80F800A5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47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579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0547A-1913-4985-80D1-2F37528DC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49080" y="144756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93400" y="144756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4760" y="387540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49080" y="387540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93400" y="387540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7C0F-45DB-460F-B869-30B753B86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0093-74D3-4B0B-8A63-DE9F50D5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DEEB-C81C-4DB6-ACCE-738A20CB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A58F-6D11-4EB6-816D-2D2E8CEE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4760" y="228240"/>
            <a:ext cx="69339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881A-16C7-4A0D-B5EA-01AD72D2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47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9FB4-2195-4C23-9B18-187DAC43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579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71C4-965D-4F02-A1ED-7D6BBDA5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4760" y="3875400"/>
            <a:ext cx="6933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FD16-B9A7-4ED2-8ACE-267DAE9C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81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43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1F4B-4FE8-4B1C-8EE6-023AE92AF1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33560" y="2134800"/>
            <a:ext cx="51814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0DFA-DEBB-488C-894C-D6ED45D5327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iik.ee/et/" TargetMode="External"/><Relationship Id="rId3" Type="http://schemas.openxmlformats.org/officeDocument/2006/relationships/hyperlink" Target="http://www.riik.ee/et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22600" y="2505240"/>
            <a:ext cx="517032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Calibri"/>
              </a:rPr>
              <a:t>Cyber Attacks in Modern Confli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Calibri"/>
              </a:rPr>
              <a:t>A Case Study of the Cyber Attack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Calibri"/>
              </a:rPr>
              <a:t>Against Estonia in 2007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Calibri"/>
              </a:rPr>
              <a:t>Rain Ott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1a5cc8"/>
                </a:solidFill>
                <a:latin typeface="Calibri"/>
              </a:rPr>
              <a:t>Cooperative Cyber Def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1a5cc8"/>
                </a:solidFill>
                <a:latin typeface="Calibri"/>
              </a:rPr>
              <a:t>Centre of Excell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800" spc="-1" strike="noStrike">
                <a:solidFill>
                  <a:srgbClr val="ffcc00"/>
                </a:solidFill>
                <a:latin typeface="Calibri"/>
              </a:rPr>
              <a:t>Possible explanations</a:t>
            </a:r>
            <a:endParaRPr b="0" lang="en-US" sz="48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79640" y="1881000"/>
            <a:ext cx="685944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Grass roots campa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False flag op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Direct information op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Indirect information op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Calibri"/>
              </a:rPr>
              <a:t>People’s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Calibri"/>
              </a:rPr>
              <a:t>Govt. provides motivation and protection from legal sa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800" spc="-1" strike="noStrike">
                <a:solidFill>
                  <a:srgbClr val="ffcc00"/>
                </a:solidFill>
                <a:latin typeface="Calibri"/>
              </a:rPr>
              <a:t>Lessons learned</a:t>
            </a:r>
            <a:endParaRPr b="0" lang="en-US" sz="48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79280" y="1881360"/>
            <a:ext cx="69850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NOT just a technical 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Cooperation is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Attack attribution may be im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Very few active counter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Cyber attacks are easy to organ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and you could be n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Internet is being militariz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800" spc="-1" strike="noStrike">
                <a:solidFill>
                  <a:srgbClr val="ffcc00"/>
                </a:solidFill>
                <a:latin typeface="Calibri"/>
              </a:rPr>
              <a:t>Thank you!</a:t>
            </a:r>
            <a:endParaRPr b="0" lang="en-US" sz="4800" spc="-1" strike="noStrike">
              <a:solidFill>
                <a:srgbClr val="99ccff"/>
              </a:solidFill>
              <a:latin typeface="Arial Black"/>
            </a:endParaRPr>
          </a:p>
        </p:txBody>
      </p:sp>
    </p:spTree>
  </p:cSld>
  <p:transition spd="med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800" spc="-1" strike="noStrike">
                <a:solidFill>
                  <a:srgbClr val="ffcc00"/>
                </a:solidFill>
                <a:latin typeface="Calibri"/>
              </a:rPr>
              <a:t>Agenda</a:t>
            </a:r>
            <a:endParaRPr b="0" lang="en-US" sz="48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79640" y="1881360"/>
            <a:ext cx="68594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Overview of 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Defensive 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Lessons lear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800" spc="-1" strike="noStrike">
                <a:solidFill>
                  <a:srgbClr val="ffcc00"/>
                </a:solidFill>
                <a:latin typeface="Calibri"/>
              </a:rPr>
              <a:t>Background</a:t>
            </a:r>
            <a:endParaRPr b="0" lang="en-US" sz="48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79640" y="1881000"/>
            <a:ext cx="685944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Bronze Soldier stat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e-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813280" y="2492280"/>
            <a:ext cx="3170520" cy="42260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979640" y="1881000"/>
            <a:ext cx="685944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26-27.04 – Riots in Tallin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27.04 – 18.05 – Cyber atta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763640" y="1952640"/>
            <a:ext cx="7380360" cy="4686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763640" y="1914480"/>
            <a:ext cx="7380360" cy="4724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800" spc="-1" strike="noStrike">
                <a:solidFill>
                  <a:srgbClr val="ffcc00"/>
                </a:solidFill>
                <a:latin typeface="Calibri"/>
              </a:rPr>
              <a:t>Overview</a:t>
            </a:r>
            <a:endParaRPr b="0" lang="en-US" sz="4800" spc="-1" strike="noStrike">
              <a:solidFill>
                <a:srgbClr val="99ccff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1763640" y="1916280"/>
            <a:ext cx="7380360" cy="4725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evian"/>
          <p:cNvPicPr/>
          <p:nvPr/>
        </p:nvPicPr>
        <p:blipFill>
          <a:blip r:embed="rId5"/>
          <a:stretch/>
        </p:blipFill>
        <p:spPr>
          <a:xfrm>
            <a:off x="3708360" y="1916280"/>
            <a:ext cx="3571920" cy="4724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1763640" y="1916280"/>
            <a:ext cx="7380360" cy="49417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800" spc="-1" strike="noStrike">
                <a:solidFill>
                  <a:srgbClr val="ffcc00"/>
                </a:solidFill>
                <a:latin typeface="Calibri"/>
              </a:rPr>
              <a:t>Motivation</a:t>
            </a:r>
            <a:endParaRPr b="0" lang="en-US" sz="48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79640" y="1881000"/>
            <a:ext cx="685944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Calibri"/>
              </a:rPr>
              <a:t>Propaga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Calibri"/>
              </a:rPr>
              <a:t>Calls and (detailed) instructions to attack Estonia on the 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Сегодня, проводится грандиозная DoS-атака на сайт их правительства </a:t>
            </a:r>
            <a:r>
              <a:rPr b="0" lang="et-EE" sz="24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http://www.riik.ee/et</a:t>
            </a:r>
            <a:r>
              <a:rPr b="0" lang="et-EE" sz="24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/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ооуществить это легко - заходим в Пуск - Стандартные - командная строка, в открывшемся окне пишем : </a:t>
            </a:r>
            <a:br>
              <a:rPr sz="2400"/>
            </a:br>
            <a:r>
              <a:rPr b="1" lang="et-EE" sz="2400" spc="-1" strike="noStrike">
                <a:solidFill>
                  <a:srgbClr val="ff3300"/>
                </a:solidFill>
                <a:latin typeface="Arial"/>
              </a:rPr>
              <a:t>ping -n 5000 -l 1000 http://www.riik.ee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на это вы потратите 5 мегабайт исходящего трафи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800" spc="-1" strike="noStrike">
                <a:solidFill>
                  <a:srgbClr val="ffcc00"/>
                </a:solidFill>
                <a:latin typeface="Calibri"/>
              </a:rPr>
              <a:t>Attack methods</a:t>
            </a:r>
            <a:endParaRPr b="0" lang="en-US" sz="48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79640" y="1881000"/>
            <a:ext cx="685944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Defac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E-mail and comment sp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DoS and DDoS atta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Calibri"/>
              </a:rPr>
              <a:t>Manual atta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Calibri"/>
              </a:rPr>
              <a:t>Botn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Some exploits and hac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800" spc="-1" strike="noStrike">
                <a:solidFill>
                  <a:srgbClr val="ffcc00"/>
                </a:solidFill>
                <a:latin typeface="Calibri"/>
              </a:rPr>
              <a:t>Targets</a:t>
            </a:r>
            <a:endParaRPr b="0" lang="en-US" sz="48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979640" y="1881000"/>
            <a:ext cx="685944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Poli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Calibri"/>
              </a:rPr>
              <a:t>Public government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Calibri"/>
              </a:rPr>
              <a:t>ISP-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0000"/>
                </a:solidFill>
                <a:latin typeface="Calibri"/>
              </a:rPr>
              <a:t>Ban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Calibri"/>
              </a:rPr>
              <a:t>On-line 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People and busin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Calibri"/>
              </a:rPr>
              <a:t>Random atta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800" spc="-1" strike="noStrike">
                <a:solidFill>
                  <a:srgbClr val="ffcc00"/>
                </a:solidFill>
                <a:latin typeface="Calibri"/>
              </a:rPr>
              <a:t>Associated events</a:t>
            </a:r>
            <a:endParaRPr b="0" lang="en-US" sz="48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79640" y="1881000"/>
            <a:ext cx="685944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Political propagan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Embassy siege in Mosc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Indirect economic sa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800" spc="-1" strike="noStrike">
                <a:solidFill>
                  <a:srgbClr val="ffcc00"/>
                </a:solidFill>
                <a:latin typeface="Calibri"/>
              </a:rPr>
              <a:t>Defensive actions</a:t>
            </a:r>
            <a:endParaRPr b="0" lang="en-US" sz="48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79640" y="1881000"/>
            <a:ext cx="685944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Coop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Calibri"/>
              </a:rPr>
              <a:t>CERT-EE and volunte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Calibri"/>
              </a:rPr>
              <a:t>International coop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Poli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M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Law enfor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Calibri"/>
              </a:rPr>
              <a:t>Only one attacker identified so f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Techn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6:04:00Z</dcterms:created>
  <dc:creator>Rain Ottis</dc:creator>
  <dc:description/>
  <cp:keywords/>
  <dc:language>en-US</dc:language>
  <cp:lastModifiedBy>Rain Ottis</cp:lastModifiedBy>
  <dcterms:modified xsi:type="dcterms:W3CDTF">2008-09-05T11:18:14Z</dcterms:modified>
  <cp:revision>104</cp:revision>
  <dc:subject/>
  <dc:title>Cyber attack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61033</vt:lpwstr>
  </property>
</Properties>
</file>